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A1B-168A-46A7-ADC0-8B811BF8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CCC-9CE0-48BA-9945-DE4D475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D79-12B6-42BE-859F-6B5DBEEC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42F-54E2-472D-BDF8-2A8F74E4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19B-E196-40C3-8360-81153023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AB2-D20E-44E9-91B2-A8774E7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8E1-F257-49C1-985D-717CED7E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938-A424-4CA3-B812-E9D9A9C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9CC-2AA5-4F17-A3E0-EFC2BD7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C15-6F6C-4B88-AF59-60C3B81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6C1-0C05-4FD1-8EE6-3AD13AE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EA1-231F-436F-B7BE-77DF095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471-198D-4037-A1E2-56FD999C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5B7B-B8EB-423B-A1A5-1B716D58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C5D4-14FA-4581-8E63-663CE110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5958-8105-48C0-A8B0-34861B4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53F-50D4-4158-A68D-0DFB4FAA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534A-25BC-4664-8C9E-56656C30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3C25-4BF4-458C-835F-F0CE91B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145-945D-47BA-A478-787C412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A2AC-F130-4960-BDDE-C7FCAF9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CB02-B664-452D-AB2B-A4CFE5E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5F93-EE9C-44FB-9068-36A233F8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1E6B-52FE-4A51-9FE4-6D70DEE8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9B0E-58F9-4721-95A9-40B4064B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5F63-8463-4E15-BA82-CC73125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6EB2-8FEE-4532-8F85-219F835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361F-307C-4D47-B273-C4348EEA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FA5E-2850-4992-BDF6-840C8D2F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93CA-78AB-4CBB-9212-6FF2028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77E7-ACA6-4A35-8214-DB26518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D1B5-3D8D-451C-99C1-01EA8DB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9BF8-685C-4B62-8D2C-9828C9B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E458-27EC-49CC-840E-74745F3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20CB-2EAB-44C7-9C61-6E2EEB01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0420-3753-4CAA-8EB5-A1B9555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4EB3-6CA0-448C-80A2-9BC9C2F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6BE9-CD09-4296-9718-71A32A2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D173-3468-483D-8F3D-4D1C97F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4730-8922-4716-9EE4-6D6647D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BCBB-0BFC-470A-AE48-B53A747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0587-A771-483D-A3DB-208B0C9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A3D7-FAC4-42D7-934E-0A204F1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23CA-7A4A-4584-921E-BAF4F1A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E6C5-E2DC-48FD-A1D6-1F15977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7007-32D7-4B50-B4E2-30CE7CC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90A0-6628-47E1-AEA3-1C2389ED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3E49-3318-43CB-8035-0523CBCC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3287-4DB7-47E1-AC91-E4A9A60B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6CEB-ACEF-4EE6-8E18-3A11AA9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569D-9119-4288-B18B-57A91CA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AA37-0E5C-48B1-867B-7E06D4B2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ED17-D6F7-40B4-94A2-5265013E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B926C-6B58-4B43-B90B-E6DBB363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FF9C-5B50-4606-8A6D-02DED7D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F306-1527-4585-8978-F8CD04D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9984-4182-45D0-9BEA-60078BD3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440E-AF7B-493E-A86B-C316AF7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81DF-40CD-4319-844E-E55E9EA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A0BBE-D7F8-4317-8FE6-720CE002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04E1-01A0-4DF8-BC5C-58829DD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3205-98B9-4C9E-9CA2-194A95C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651C-392C-4806-937A-1035264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0AE1-79EF-4237-8D7A-BB68B2BE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5FAB-7658-49A2-9E2D-9553497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D05B-8BC7-418E-A18B-3516399A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A52C-02C8-4250-A24B-2B959F8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41FC-D5B6-44CC-B2AD-9E5C32F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CDEA-FE24-4268-ACCE-1AF6777A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F090-5FD5-4507-9EB2-EEFF4AD0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981D-7F71-4F7E-B167-4D5626E8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9DDE2-C8F3-46BE-AA1D-85872A61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6DAA-4D90-4D02-AC46-D5FFF785FACA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C43-C8D4-4168-9EED-648DF311872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90A-BBED-45D8-A434-B32471AF0D41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DD8-D10B-4360-8F60-36F4189EBD8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ED3-A558-4323-9F75-C0780B46A991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2EE-20BB-4A5B-BC0A-05B783CE6093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googledrive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play Karya Video Animasi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“Bouncing Ball”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2254320" y="1662120"/>
            <a:ext cx="7683480" cy="4321080"/>
          </a:xfrm>
          <a:prstGeom prst="rect">
            <a:avLst/>
          </a:prstGeom>
          <a:ln w="0">
            <a:noFill/>
          </a:ln>
        </p:spPr>
      </p:pic>
      <p:sp>
        <p:nvSpPr>
          <p:cNvPr id="314" name="Title 1"/>
          <p:cNvSpPr/>
          <p:nvPr/>
        </p:nvSpPr>
        <p:spPr>
          <a:xfrm>
            <a:off x="2227320" y="1104840"/>
            <a:ext cx="7684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OH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Berisikan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creenshot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ya video animas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Bounching Bal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serta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ink file karya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video animasi Bouncing Ball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oogle Driv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797360" y="6037200"/>
            <a:ext cx="2882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oh) Link Karya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googledrive.c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tle 1"/>
          <p:cNvSpPr/>
          <p:nvPr/>
        </p:nvSpPr>
        <p:spPr>
          <a:xfrm>
            <a:off x="2289240" y="5618160"/>
            <a:ext cx="1944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Sumber: You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play DESAIN KARAKTER ANI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itle 1"/>
          <p:cNvSpPr/>
          <p:nvPr/>
        </p:nvSpPr>
        <p:spPr>
          <a:xfrm>
            <a:off x="2227320" y="3182760"/>
            <a:ext cx="76849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 karya DESAIN KARAKTER AIMASI –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ndscape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ta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ink folder karya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esain Karakter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oogle Dr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play STORYBOARD ANI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2252520" y="3182760"/>
            <a:ext cx="76852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 karya STORYBOARD ANIMASI –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ndscape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ta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ink folder karya g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mbar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toryboard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oogle Dr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play Karya Terb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2424240" y="3068640"/>
            <a:ext cx="7683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 karya terbaik/prestasi dan lampirkan sertifikat memenangkan/mengikuti kompetisi/memperoleh penghargaan atau surat keterangan resmi dari panitia/pihak penyelengg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play Karya Terpil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2424240" y="3068640"/>
            <a:ext cx="7683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 karya terpilih yang menunjukkan minat di bidang Animasi dan dibuat/diciptakan oleh anda sendi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tle 1"/>
          <p:cNvSpPr/>
          <p:nvPr/>
        </p:nvSpPr>
        <p:spPr>
          <a:xfrm>
            <a:off x="3549600" y="385920"/>
            <a:ext cx="50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eskripsi Pengalaman dan Prest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2424240" y="3068640"/>
            <a:ext cx="7683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late yang telah disediakan dan telah diisi sesuai instruksi atau sertifikat/surat keterangan yang berisikan memenangkan suatu kompetisi atau memperoleh suatu pengharg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3306600" y="385920"/>
            <a:ext cx="5526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eskripsi Diri atas Motivasi dan 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emilih Prodi Ani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itle 1"/>
          <p:cNvSpPr/>
          <p:nvPr/>
        </p:nvSpPr>
        <p:spPr>
          <a:xfrm>
            <a:off x="2424240" y="3068640"/>
            <a:ext cx="7683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late yang telah disediakan dan telah diisi sesuai instruk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itle 1"/>
          <p:cNvSpPr/>
          <p:nvPr/>
        </p:nvSpPr>
        <p:spPr>
          <a:xfrm>
            <a:off x="3306600" y="385920"/>
            <a:ext cx="5526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2424240" y="3068640"/>
            <a:ext cx="7683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isikan pinda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can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au foto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late yang telah disediakan dan telah diisi sesuai instruk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Stri Agneyastra Dite</cp:lastModifiedBy>
  <dcterms:modified xsi:type="dcterms:W3CDTF">2025-05-19T08:27:30Z</dcterms:modified>
  <cp:revision>49</cp:revision>
  <dc:subject/>
  <dc:title>Slide 1</dc:title>
</cp:coreProperties>
</file>